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D39-62D6-4E1C-8CFB-D7642A75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7E6-BC00-4075-98C9-A2A239741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06B-4022-4454-AA84-5A488BE86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2B3-231D-4051-89EA-D0F0126AB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23A-44C5-421A-B9E6-8344D73C0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597C-B417-4162-AA18-B84AC2EA6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C3D5-C13C-4634-BC0E-3EA89BD22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F32-F69F-4483-82E1-7B0265F9D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3B59-2EF4-4628-A9E6-DBADFEB76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B1A-EAE9-4DA5-8293-B5EF08F626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F37-D9B8-4896-B49D-12BEFAF33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E39A-01A1-455C-87F3-74FDAF781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37B8-C1E3-4577-9736-46CBBB639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A96-DC70-4796-95C0-D107A45DC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F6B-5FA1-46B5-95CA-63E060564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2B17-AD81-49D0-9D1B-8E05C2676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4032-DFC1-4DF3-A270-AD7B3E43C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388-937C-4207-92F0-D87ACA632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D8CE-DF49-46F3-8ACD-816767CDF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BB5-C6D9-4AE0-AEA2-852FF4E6B0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E6D-C732-416D-BF45-774FFE1E4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11F-066C-4B77-B680-10E134EF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748-C372-4033-A902-A4AD314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704-A0F5-4D1E-A8EA-5EEF5A43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C66-566B-4FBC-A87C-BE2E5EF9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671-2C01-40FD-A997-8055982C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9CF1-8A1E-4F07-AF04-5D227E29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0E4E-39E4-47FB-9DB5-E447A9B2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003D-5B1D-400E-94F0-C7ECEAD2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61C4-6E0B-4D96-AC6C-548A629E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F02-1221-499B-BD39-DDAC637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5B1-2F25-4150-9892-43D530A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5F3-1B34-4E1E-AC34-937CC252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2C63-68BE-47D6-8869-AAD9193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ECE-D468-4753-B640-297BD6A5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E3A4-FDBE-4789-81CB-763CC587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13B-9213-44EF-A818-59831461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C48B-A034-4A1E-AEB4-14736404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B9F-7954-41D3-8A5A-631BB5B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0B5-E10B-47B6-8A8B-DBE45C88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146-DF42-4711-B21A-AF21686F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BFB-62B0-4A9C-A04E-8387FAB3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350-163E-42C1-A67E-A328A33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A70-1426-4A69-BD21-37AB32D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C8B-B850-4493-8305-3BF6CFAB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1E3-C143-4CA7-A6FE-87882168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C5F-3B8D-409E-A64A-EBB7FA778E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GISLATIVE/ EXECUTIVE BRANCH REVIEW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you may use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How many electoral votes does Tennesse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1600200" y="3048120"/>
            <a:ext cx="55069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Congress is made up of how many membe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5410080" y="3990960"/>
            <a:ext cx="1305000" cy="976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4"/>
          <a:stretch/>
        </p:blipFill>
        <p:spPr>
          <a:xfrm>
            <a:off x="1690560" y="2641680"/>
            <a:ext cx="5762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1. Oak Ridge is located in which Tennessee Congressional distric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206280" y="392256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3487680" y="3132000"/>
            <a:ext cx="2166840" cy="3256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6172200" y="38368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240" y="0"/>
            <a:ext cx="9144000" cy="618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2. Which of the following states has the most members of the House of Representative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Alabama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California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New York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Tex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3. Who is the current President Pro Tempor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685800" y="2971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4"/>
          <a:stretch/>
        </p:blipFill>
        <p:spPr>
          <a:xfrm>
            <a:off x="5105520" y="3309840"/>
            <a:ext cx="212400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4. Who is the current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3287520" cy="271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4"/>
          <a:stretch/>
        </p:blipFill>
        <p:spPr>
          <a:xfrm>
            <a:off x="4800600" y="3529080"/>
            <a:ext cx="33638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5. Who is the current Attorney General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2776680" y="2743200"/>
            <a:ext cx="35906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6. Who is the current Vice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676600" cy="334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4876920" y="3171960"/>
            <a:ext cx="244620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7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8. Who is the current Secretary of Homeland Securi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1371600" y="2743200"/>
            <a:ext cx="2625840" cy="3741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4"/>
          <a:stretch/>
        </p:blipFill>
        <p:spPr>
          <a:xfrm>
            <a:off x="4952880" y="3392640"/>
            <a:ext cx="2600280" cy="17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establishes the Legisla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343400" cy="244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5943600" y="2895480"/>
            <a:ext cx="18795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4"/>
          <a:stretch/>
        </p:blipFill>
        <p:spPr>
          <a:xfrm>
            <a:off x="5369040" y="519264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9. Who is the current Secretary of Defen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1592280" y="2895480"/>
            <a:ext cx="595944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0. Who is the current Secretary of the Treasur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2600280" cy="2600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952880" y="39625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ich article of the Constitution establishes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609480" y="352584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124440" cy="43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How long is a term for a member of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74448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he Constitution provides for what type of legislatur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486160" y="2895480"/>
            <a:ext cx="4171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a Senato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2612880"/>
            <a:ext cx="2895480" cy="38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711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a Representativ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3297240" y="2514600"/>
            <a:ext cx="2549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2460600" y="2438280"/>
            <a:ext cx="422280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0680"/>
            <a:ext cx="89154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The Speaker of the House is chosen by and is the leader of the ______ part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703600" y="2666880"/>
            <a:ext cx="3736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3-01T18:01:11Z</dcterms:modified>
  <cp:revision>156</cp:revision>
  <dc:subject/>
  <dc:title>D/O: TO EXPLAIN AND IDENTIFY PROBLEMS OF ECONOMICS</dc:title>
</cp:coreProperties>
</file>